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BF302-D729-4C38-9243-4C99E8E6F1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8373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AA1E1-E2AF-4165-BD65-D51C4654C3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8373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B06DB-A50D-495E-8AC5-7EA0271FB2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8373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0EE68-D03E-471E-B4D3-A76020D63B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8373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E37CA-89F0-4023-ACE8-0020B38E9B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8373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CF418-1EFF-4624-8A0E-00ED2C700D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8373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DDD72-CEAA-4763-A56F-0F5F000D90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8373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BF2B1-BB0D-48A0-8E82-6479B9E3AB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838080"/>
            <a:ext cx="82296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19111-1C29-43D7-8423-E872627C9B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8373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45234-C99C-43EA-86DE-997114C40D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8373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8F9AC-37DA-4F1F-BD03-36BB676543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8373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306A3-C7B0-42A0-90DA-21383B032E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80520" y="6324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53AF-388B-4A4D-8643-7242EBA42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89040" y="322200"/>
            <a:ext cx="8454960" cy="3556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228600" y="304920"/>
            <a:ext cx="341280" cy="5331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7200" y="0"/>
            <a:ext cx="822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Международный семинар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"Низкая рождаемость в Российской Федерации: вызовы и стратегические подходы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14-15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ентября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2006,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Москв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720840" y="6461280"/>
            <a:ext cx="217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Вольфганг Луц и Сергей Щерб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IASA and V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2080" y="99072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изкая Рождаемость: Последствия и Политика в России, Болгарии и Австрии.</a:t>
            </a:r>
            <a:br>
              <a:rPr sz="28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ольфганг Луц и Сергей Щербов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Международный Институт Прикладного Системного Анализа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(IIASA)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енский Институт Демографии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встрийская Академия Наук)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13204" t="0" r="9024" b="0"/>
          <a:stretch/>
        </p:blipFill>
        <p:spPr>
          <a:xfrm>
            <a:off x="304920" y="3581280"/>
            <a:ext cx="883908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Численность молодых мужчин в России по трём сценариям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88840" y="1600200"/>
            <a:ext cx="73663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9DD11-6EC7-4178-BE16-BED690E01A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емографическая Политика в России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озможные результаты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едпосылки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2437920"/>
            <a:ext cx="84582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ий возраст первых рождений не мен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ий возраст рождений очередности 2 и выше уменьшается на 2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вторых рождений увеличивается 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грация не учит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ертность – два вариан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ется на уров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ьшается в соответствии с предпосылками О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7FA5F-F097-4188-A3C4-F1A7AF883B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емографическая Политика в России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исленность населения</a:t>
            </a:r>
            <a:br>
              <a:rPr sz="2000"/>
            </a:b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88840" y="1600200"/>
            <a:ext cx="73663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8562C-E92F-4ECC-96D6-08EC98BBCF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емографическая Политика в России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исло рождений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36596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DC03A-B859-44CC-AAEB-2860071C7A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емографическая Политика в России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жегодный прирост численности населения</a:t>
            </a:r>
            <a:br>
              <a:rPr sz="2400"/>
            </a:b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88840" y="1600200"/>
            <a:ext cx="73663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41E7A-F2B6-4E14-BE07-402EBA0C04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еобходимость в Данных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всех развитых странах регистрируется очередность рожд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оссии она регистрировалась д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8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ные о рождаемости по порядку рождений не регистриру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 информации о порядке рождений ОЧЕНЬ ТРУДНО ОЦЕНИТЬ РЕЗУЛЬТАТЫ демографической поли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возможно управлять не измеря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7FDF3-B80E-4DA2-8806-1E341F67FC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Рассмотрение эффекта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айминга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”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ладывание деторождения – одна из главных причин теперешней низкой рождаемости условных поколений в странах Евро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 средний возраст деторождения растет рождаемость будет сниж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ой политики можно попытаться остановить этот р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новка тенденции к позднемудеторождению можно  оказать положительное влияние на здоров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Европе коэффициент рождаемости увеличится 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to 1.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ий возраст деторождения перестанет р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5322D-DF90-4B8E-975D-D96560246A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96880" y="1625760"/>
            <a:ext cx="8637480" cy="5118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1117440"/>
            <a:ext cx="8382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 Narrow"/>
              </a:rPr>
              <a:t>Суммарный коэффициент рождаемости по Центральной</a:t>
            </a:r>
            <a:r>
              <a:rPr b="1" lang="en-US" sz="3200" spc="-1" strike="noStrike">
                <a:solidFill>
                  <a:srgbClr val="333399"/>
                </a:solidFill>
                <a:latin typeface="Arial Narrow"/>
              </a:rPr>
              <a:t>/</a:t>
            </a:r>
            <a:r>
              <a:rPr b="1" lang="ru-RU" sz="3200" spc="-1" strike="noStrike">
                <a:solidFill>
                  <a:srgbClr val="333399"/>
                </a:solidFill>
                <a:latin typeface="Arial Narrow"/>
              </a:rPr>
              <a:t>Восточной Европе</a:t>
            </a:r>
            <a:r>
              <a:rPr b="1" lang="en-US" sz="3200" spc="-1" strike="noStrike">
                <a:solidFill>
                  <a:srgbClr val="333399"/>
                </a:solidFill>
                <a:latin typeface="Arial Narrow"/>
              </a:rPr>
              <a:t>, 1960–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486BA-6D0E-4F28-8B8A-F36660D91B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82480" y="1585800"/>
            <a:ext cx="8637840" cy="5119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00" y="109692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редний возраст деторождения </a:t>
            </a:r>
            <a:r>
              <a:rPr b="1" lang="ru-RU" sz="3200" spc="-1" strike="noStrike">
                <a:solidFill>
                  <a:srgbClr val="333399"/>
                </a:solidFill>
                <a:latin typeface="Arial Narrow"/>
              </a:rPr>
              <a:t>по Центральной</a:t>
            </a:r>
            <a:r>
              <a:rPr b="1" lang="en-US" sz="3200" spc="-1" strike="noStrike">
                <a:solidFill>
                  <a:srgbClr val="333399"/>
                </a:solidFill>
                <a:latin typeface="Arial Narrow"/>
              </a:rPr>
              <a:t>/</a:t>
            </a:r>
            <a:r>
              <a:rPr b="1" lang="ru-RU" sz="3200" spc="-1" strike="noStrike">
                <a:solidFill>
                  <a:srgbClr val="333399"/>
                </a:solidFill>
                <a:latin typeface="Arial Narrow"/>
              </a:rPr>
              <a:t>Восточной Европе</a:t>
            </a:r>
            <a:r>
              <a:rPr b="1" lang="en-US" sz="3200" spc="-1" strike="noStrike">
                <a:solidFill>
                  <a:srgbClr val="333399"/>
                </a:solidFill>
                <a:latin typeface="Arial Narrow"/>
              </a:rPr>
              <a:t>, 1960–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50759-7765-43F1-952C-D9B92A9061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952880" y="53560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"New Child  Support Schem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35120" y="1685880"/>
            <a:ext cx="8637480" cy="5121360"/>
            <a:chOff x="735120" y="1685880"/>
            <a:chExt cx="8637480" cy="51213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735120" y="1685880"/>
              <a:ext cx="863748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 flipH="1" flipV="1">
              <a:off x="7752960" y="1980720"/>
              <a:ext cx="19080" cy="389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838080" y="6553080"/>
            <a:ext cx="601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*A fertility index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djusting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TFR for the tempo effec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09692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 Narrow"/>
              </a:rPr>
              <a:t>Суммарный коэффициент рождаемости и</a:t>
            </a:r>
            <a:r>
              <a:rPr b="1" lang="en-US" sz="2800" spc="-1" strike="noStrike">
                <a:solidFill>
                  <a:srgbClr val="333399"/>
                </a:solidFill>
                <a:latin typeface="Arial Narrow"/>
              </a:rPr>
              <a:t> “</a:t>
            </a:r>
            <a:r>
              <a:rPr b="1" lang="ru-RU" sz="2800" spc="-1" strike="noStrike">
                <a:solidFill>
                  <a:srgbClr val="333399"/>
                </a:solidFill>
                <a:latin typeface="Arial Narrow"/>
              </a:rPr>
              <a:t>Средняя очередность рождений условных поколений</a:t>
            </a:r>
            <a:r>
              <a:rPr b="1" lang="en-US" sz="2800" spc="-1" strike="noStrike">
                <a:solidFill>
                  <a:srgbClr val="333399"/>
                </a:solidFill>
                <a:latin typeface="Arial Narrow"/>
              </a:rPr>
              <a:t>”* </a:t>
            </a:r>
            <a:r>
              <a:rPr b="1" lang="ru-RU" sz="2800" spc="-1" strike="noStrike">
                <a:solidFill>
                  <a:srgbClr val="333399"/>
                </a:solidFill>
                <a:latin typeface="Arial Narrow"/>
              </a:rPr>
              <a:t>по Австрии</a:t>
            </a:r>
            <a:r>
              <a:rPr b="1" lang="en-US" sz="2800" spc="-1" strike="noStrike">
                <a:solidFill>
                  <a:srgbClr val="333399"/>
                </a:solidFill>
                <a:latin typeface="Arial Narrow"/>
              </a:rPr>
              <a:t>, 1984–2004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68218-A01B-4721-9AD9-AECB6D607E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ри  Темы к Обсуждению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енциал демографического роста и демографическая полит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ьшее количество потенциальных матерей означает меньшее количество рожд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рассчетами  для Росси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ширение взглядов на человеческий капита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ди+образова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пция баланса населения, принятая в болгарской политике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рекция таймингого эффекта для оценки влияния семейной политики на рождаемость в Австрии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80C4D-3486-4897-B1F9-B528164F9C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39680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2002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Австрия ввела новую схему по выплате пособий на ребенка</a:t>
            </a:r>
            <a:br>
              <a:rPr sz="36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есячная выплата 436 евро наличными на каждого ребенка до 2,5-летнего возраста, даже если родители работаю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тель, запрашивающий пособие (обычно мать), может зарабатывать д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,00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вро в год, не теряя пособ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тел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ь или оте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взять неоплачеваемый отпуск по уходу за ребенком с правом возврата на рабочее м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гой родитель может взять дополнительные 6 месяцев неоплачеваемого отпуска, также с правом возврата на рабочее м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129BD-12F8-4F70-B7D3-BB471A087D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35120" y="1600200"/>
            <a:ext cx="8637480" cy="5118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flipV="1">
            <a:off x="2924280" y="1890720"/>
            <a:ext cx="0" cy="365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482616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"New Child  Support Schem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6515280"/>
            <a:ext cx="601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*A fertility index adjusting TFR for the tempo eff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91440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 Narrow"/>
              </a:rPr>
              <a:t>Суммарный коэффициент рождаемости и</a:t>
            </a:r>
            <a:r>
              <a:rPr b="1" lang="en-US" sz="2800" spc="-1" strike="noStrike">
                <a:solidFill>
                  <a:srgbClr val="333399"/>
                </a:solidFill>
                <a:latin typeface="Arial Narrow"/>
              </a:rPr>
              <a:t> “</a:t>
            </a:r>
            <a:r>
              <a:rPr b="1" lang="ru-RU" sz="2800" spc="-1" strike="noStrike">
                <a:solidFill>
                  <a:srgbClr val="333399"/>
                </a:solidFill>
                <a:latin typeface="Arial Narrow"/>
              </a:rPr>
              <a:t>Средняя очередность рождений условных поколений</a:t>
            </a:r>
            <a:r>
              <a:rPr b="1" lang="en-US" sz="2800" spc="-1" strike="noStrike">
                <a:solidFill>
                  <a:srgbClr val="333399"/>
                </a:solidFill>
                <a:latin typeface="Arial Narrow"/>
              </a:rPr>
              <a:t>”* </a:t>
            </a:r>
            <a:r>
              <a:rPr b="1" lang="ru-RU" sz="2800" spc="-1" strike="noStrike">
                <a:solidFill>
                  <a:srgbClr val="333399"/>
                </a:solidFill>
                <a:latin typeface="Arial Narrow"/>
              </a:rPr>
              <a:t>по Австрии</a:t>
            </a:r>
            <a:r>
              <a:rPr b="1" lang="en-US" sz="2800" spc="-1" strike="noStrike">
                <a:solidFill>
                  <a:srgbClr val="333399"/>
                </a:solidFill>
                <a:latin typeface="Arial Narrow"/>
              </a:rPr>
              <a:t>, </a:t>
            </a:r>
            <a:r>
              <a:rPr b="1" lang="ru-RU" sz="2800" spc="-1" strike="noStrike">
                <a:solidFill>
                  <a:srgbClr val="333399"/>
                </a:solidFill>
                <a:latin typeface="Arial Narrow"/>
              </a:rPr>
              <a:t>данные по кварталам</a:t>
            </a:r>
            <a:r>
              <a:rPr b="1" lang="en-US" sz="2800" spc="-1" strike="noStrike">
                <a:solidFill>
                  <a:srgbClr val="333399"/>
                </a:solidFill>
                <a:latin typeface="Arial Narrow"/>
              </a:rPr>
              <a:t> 2001–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B96DD-40E1-4F55-9889-2C4F1953F8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09692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ероятная демографическая перспектива Австрии как результат новой политик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и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2–2004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ждаемость увеличи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Суммарный Коэффициент Рождаем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ос только 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6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.44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о-прежнему ниже уровня простого вос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ий возраст деторождения продолжает ра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 из-за возрастания рождений более высокой очередности среди женщин старших возраст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ишком рано оценивать будет ли эта политика иметь продолжительный эфф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будущем по-прежнему ожидается массовое старение и снижение численности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AF709-E2FE-4A4C-B7E6-D8622CFC93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По направлению к балансу населения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определить цель национальных политик населения в условиях снижения его числен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хотим объединить демографические аспекты с вопросами человеческого капит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юди-это национальное богатсв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асчет принимается не только количество люд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также их способности, умения и состояние здоро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бинация всех этих аспектов является базой человеческих ресурсов или человеческим капиталом нации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3EFF6-6CB2-4AF8-82F6-12AC5017E2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Человеческий капитал Болгарии</a:t>
            </a:r>
            <a:r>
              <a:rPr b="1" lang="de-AT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а </a:t>
            </a:r>
            <a:r>
              <a:rPr b="1" lang="de-AT" sz="2800" spc="-1" strike="noStrike">
                <a:solidFill>
                  <a:srgbClr val="333399"/>
                </a:solidFill>
                <a:latin typeface="Arial"/>
              </a:rPr>
              <a:t>2001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85960" y="1600200"/>
            <a:ext cx="737208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05AF3-DFAE-4C7F-B940-0BD7417BF18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Человеческий капитал Болгарии на</a:t>
            </a:r>
            <a:r>
              <a:rPr b="1" lang="de-AT" sz="2800" spc="-1" strike="noStrike">
                <a:solidFill>
                  <a:srgbClr val="333399"/>
                </a:solidFill>
                <a:latin typeface="Arial"/>
              </a:rPr>
              <a:t> 2031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стоянный сценарий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85960" y="1600200"/>
            <a:ext cx="737208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4D48B-7BB7-4181-BE40-10B3966D7D4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Человеческий капитал Болгарии на</a:t>
            </a:r>
            <a:r>
              <a:rPr b="1" lang="de-AT" sz="2800" spc="-1" strike="noStrike">
                <a:solidFill>
                  <a:srgbClr val="333399"/>
                </a:solidFill>
                <a:latin typeface="Arial"/>
              </a:rPr>
              <a:t> 2031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ождаемость</a:t>
            </a:r>
            <a:r>
              <a:rPr b="1" lang="de-AT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о</a:t>
            </a:r>
            <a:r>
              <a:rPr b="1" lang="de-AT" sz="2800" spc="-1" strike="noStrike">
                <a:solidFill>
                  <a:srgbClr val="333399"/>
                </a:solidFill>
                <a:latin typeface="Arial"/>
              </a:rPr>
              <a:t> 1.8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люс</a:t>
            </a:r>
            <a:r>
              <a:rPr b="1" lang="de-AT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больше обучения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85960" y="1600200"/>
            <a:ext cx="737208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E2F75-9C0E-4E4A-A1F8-38509B88F9F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Баланс населения как цель политик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Такое расширенное понятие населения подразумевает, что цели политики должны определяться не только размером населения, а еще и  человеческими ресурсами имеющимися в наличии для создания лучшего возможного качества жизни для всех членов общества.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атем, на фоне согласованного мнения, детально может быть очерчена политика,  определяющая, что является желательным и что - реально достижимым балансом между различными возрастными и образовательными категориями в общ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2EB13-F41D-456F-87B4-B81B706B3D5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тенциал Демографического Роста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йне важное понятие для оценки демографической поли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использовать как отправную точку для анали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14D40-F4D6-4A02-82D0-C6DD798FBF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тенциал Демографического Роста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енциал демографического рос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тенденция населения к росту после того, как рождаемость снизилась до уровня замещающей рождаемости вследствие относительно большой численности населения в детородных возрас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щающая рождаемость – это такой уровень рождаемости, когда поколение женщин заменяется равным по численности поколением дочер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E4EB5-AE66-4F9E-94F6-006A7211BA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тенциал Демографического Роста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имер растущего населения)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68280" y="1600200"/>
            <a:ext cx="660564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D38DF-6669-46B2-947F-FAC26AE388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тенциал Демографического Роста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селениях со стареющей возрастной структурой потенциал демографического роста может вести к снижению численности населения, как результат того, что детей оказывается меньше, чем их род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8B730-E64F-47D1-A1F5-22C8179F12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тенциал Демографического Роста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качок к замещающей рождаемости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 2006 не предотвращает убыль населения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играция отсутствует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88840" y="1600200"/>
            <a:ext cx="73663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7C186-A0F4-48A9-930C-881DD99DBD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тенциал Демографического Роста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гипотетический скачок до замещающей рождаемости по-прежнему ведет к снижению населения)+ 2 других сценария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88840" y="1600200"/>
            <a:ext cx="73663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7F5D3-2539-4700-B5BD-B91035ADC3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оличество рождений по России по трём сценариям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88840" y="1600200"/>
            <a:ext cx="73663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6B265-BF36-4E5C-BFFA-CD01F4F595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0:39:33Z</dcterms:created>
  <dc:creator>lutz</dc:creator>
  <dc:description/>
  <dc:language>en-US</dc:language>
  <cp:lastModifiedBy> sergei</cp:lastModifiedBy>
  <dcterms:modified xsi:type="dcterms:W3CDTF">2006-09-11T17:19:38Z</dcterms:modified>
  <cp:revision>54</cp:revision>
  <dc:subject/>
  <dc:title>Slide 1</dc:title>
</cp:coreProperties>
</file>